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1506-C992-4346-9E2C-891A5DD3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3C1F-5621-4D2C-BDD9-F927AAD4D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4935-C8DB-4899-8558-8B26E1FC4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4CE8-50FD-41AC-B549-AFEA22A7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5312-E196-4905-BB5F-6A46112D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907E-C87C-4879-87DC-6386A6A4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BA34-5584-4433-9E1A-BADEE81F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D7D-A786-492E-925A-ED3027DE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7516-7A32-4B3C-9DC1-4416CD32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90CE-CEBF-4E05-93EC-3DF2A4FED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ACC-A486-406C-87D2-641C48E9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AB6-365D-47EF-8EEC-8E3581D7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EE3-7D88-4753-AB61-2B41CFDE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685-955F-4D63-8B31-A10C5143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EF4-F4B4-4060-AE84-2CDD9FC7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607-E4C2-49C9-AED4-2F47B423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95F-DE4D-4599-B6C1-03741FD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B1B-A23F-4D72-A568-BBA01E9C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7F9-227F-4698-ACF1-C5BEC3D1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AF1-23D1-4979-8CAA-692A55EE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27A-1A0A-4DE1-B7D1-6CFECB6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562-A60E-479C-BDD4-3C452860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D8C4-03F5-4FB9-98A8-985CC3F55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La Casa de Mis S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"/>
              </a:rPr>
              <a:t>Por: Maggie Par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df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523880" y="3276720"/>
            <a:ext cx="716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905120" y="30481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09680" y="48769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i casa esta localizada en Fiji. Vivo en mi Casa en el ve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971800" y="533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Mi C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Fancy_house_Tintipan"/>
          <p:cNvPicPr/>
          <p:nvPr/>
        </p:nvPicPr>
        <p:blipFill>
          <a:blip r:embed="rId1"/>
          <a:stretch/>
        </p:blipFill>
        <p:spPr>
          <a:xfrm>
            <a:off x="2514600" y="1447920"/>
            <a:ext cx="42102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El Ba</a:t>
            </a:r>
            <a:r>
              <a:rPr b="1" lang="en-US" sz="4400" spc="-1" strike="noStrike">
                <a:solidFill>
                  <a:srgbClr val="000000"/>
                </a:solidFill>
                <a:latin typeface="Curlz MT"/>
                <a:ea typeface="Arial"/>
              </a:rPr>
              <a:t>ñ</a:t>
            </a:r>
            <a:r>
              <a:rPr b="1" lang="en-US" sz="4400" spc="-1" strike="noStrike">
                <a:solidFill>
                  <a:srgbClr val="000000"/>
                </a:solidFill>
                <a:latin typeface="Curlz MT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3360" y="0"/>
            <a:ext cx="1924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63360" y="0"/>
            <a:ext cx="1924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610080" y="2705040"/>
            <a:ext cx="1923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895480" y="487692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El ba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  <a:ea typeface="Arial"/>
              </a:rPr>
              <a:t>ñ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 es pequeña. Tiene un retrete y una banera. Me gusta usar el b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bathroom2400533"/>
          <p:cNvPicPr/>
          <p:nvPr/>
        </p:nvPicPr>
        <p:blipFill>
          <a:blip r:embed="rId2"/>
          <a:stretch/>
        </p:blipFill>
        <p:spPr>
          <a:xfrm>
            <a:off x="3352680" y="1295280"/>
            <a:ext cx="25527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ef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Mi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7238880"/>
            <a:ext cx="228600" cy="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8080" bIns="28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63360" y="-20520"/>
            <a:ext cx="1895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63360" y="-20520"/>
            <a:ext cx="1895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624120" y="2705040"/>
            <a:ext cx="189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3624120" y="2705040"/>
            <a:ext cx="189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5" descr="beach-inspired-teenage-boys-bedroom"/>
          <p:cNvPicPr/>
          <p:nvPr/>
        </p:nvPicPr>
        <p:blipFill>
          <a:blip r:embed="rId1"/>
          <a:stretch/>
        </p:blipFill>
        <p:spPr>
          <a:xfrm>
            <a:off x="2514600" y="1600200"/>
            <a:ext cx="4267080" cy="2793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6"/>
          <p:cNvSpPr/>
          <p:nvPr/>
        </p:nvSpPr>
        <p:spPr>
          <a:xfrm>
            <a:off x="2895480" y="44956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La cuarto es estupendo y fabuloso. Tiene una cama y una escritorio.Me gusta domir en mi cuartr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gasus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666880" y="5105520"/>
            <a:ext cx="403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362320" y="50292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gasus"/>
              </a:rPr>
              <a:t>La sala es muy magnifico. Tiene un sofa, un mesa, y una terraza. Me gusta hablar con mi familia en la sal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743200" y="53341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9718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PicForNewsletterFijiNov2005NamaleDreamBureCouch"/>
          <p:cNvPicPr/>
          <p:nvPr/>
        </p:nvPicPr>
        <p:blipFill>
          <a:blip r:embed="rId2"/>
          <a:stretch/>
        </p:blipFill>
        <p:spPr>
          <a:xfrm>
            <a:off x="2514600" y="1676520"/>
            <a:ext cx="38098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edd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Large-Dining-Room-Area-in-Luxurious-13500000-House-in-Malibu-Dream-Beach-House"/>
          <p:cNvPicPr/>
          <p:nvPr/>
        </p:nvPicPr>
        <p:blipFill>
          <a:blip r:embed="rId1"/>
          <a:stretch/>
        </p:blipFill>
        <p:spPr>
          <a:xfrm>
            <a:off x="2514600" y="1752480"/>
            <a:ext cx="4495680" cy="2832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2971800" y="51814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ubway"/>
              </a:rPr>
              <a:t>El comedor es muy lujoso. Tiene un mesa grande y muchas sillas. Me gusta comer en la comed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f8f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66688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La cocina es muy bella. Tiene fregadero y un refrigerad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Mi madre cocinar en la coc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Bahamas_Fiji_PL001_LO_RES"/>
          <p:cNvPicPr/>
          <p:nvPr/>
        </p:nvPicPr>
        <p:blipFill>
          <a:blip r:embed="rId1"/>
          <a:stretch/>
        </p:blipFill>
        <p:spPr>
          <a:xfrm>
            <a:off x="2895480" y="1676520"/>
            <a:ext cx="3657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ythagoras"/>
              </a:rPr>
              <a:t>El Por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rosemarybeach-porch"/>
          <p:cNvPicPr/>
          <p:nvPr/>
        </p:nvPicPr>
        <p:blipFill>
          <a:blip r:embed="rId1"/>
          <a:stretch/>
        </p:blipFill>
        <p:spPr>
          <a:xfrm>
            <a:off x="259092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819520" y="47242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666880" y="480060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819520" y="4724280"/>
            <a:ext cx="373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ythagoras"/>
              </a:rPr>
              <a:t>El porche es muy grande y magnifico. Me gusta leer en el porche. Tiene los sillas y muchas me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048120" y="1447920"/>
            <a:ext cx="343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LongIsland"/>
              </a:rPr>
              <a:t>El Fin!!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5:58Z</dcterms:created>
  <dc:creator>parisimag</dc:creator>
  <dc:description/>
  <dc:language>en-US</dc:language>
  <cp:lastModifiedBy>Parisi Laptop</cp:lastModifiedBy>
  <dcterms:modified xsi:type="dcterms:W3CDTF">2012-05-24T20:54:11Z</dcterms:modified>
  <cp:revision>8</cp:revision>
  <dc:subject/>
  <dc:title>La Casa de Mis Suenos</dc:title>
</cp:coreProperties>
</file>